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D1E6-94A8-4F13-B8A8-6B3357067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2A17-94B5-4358-AFA0-508DB6D8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9212-AB42-4152-B85B-E63578D85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7BBE-4A1A-4D0E-B25E-3A3B729F0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AF36-AD92-486D-9B87-EBD8896F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E264-E75B-45AE-ADF3-2DD47B3B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DE0F-ED72-404E-852D-4D6518D4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E63C-0180-43E7-ACF2-D24E480E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5C35-718B-45A9-8908-A21038E0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275F-B2CE-4427-97E9-F8D5AE3F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E678-92F0-4B5B-9744-7B1AF6A7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C859-45B1-4132-B630-5E7332CF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429C-9C19-42C3-B7EE-97E72B5A2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3880" y="928800"/>
          <a:ext cx="6019920" cy="50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28800"/>
                    <a:ext cx="6019920" cy="50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4T20:43:57Z</dcterms:created>
  <dc:creator>lambesi</dc:creator>
  <dc:description/>
  <dc:language>en-US</dc:language>
  <cp:lastModifiedBy>lambesi</cp:lastModifiedBy>
  <cp:lastPrinted>2003-04-24T19:47:02Z</cp:lastPrinted>
  <dcterms:modified xsi:type="dcterms:W3CDTF">2003-04-24T19:48:26Z</dcterms:modified>
  <cp:revision>18</cp:revision>
  <dc:subject/>
  <dc:title>Sin título de diapositiva</dc:title>
</cp:coreProperties>
</file>